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6DE7E-169D-427A-82A4-B48A53E31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7B49A-D730-40A9-BE71-D130B5AD2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78FE5-5C5D-432D-8784-28B331176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BEC4D-9032-4753-9150-99F4B5DBE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77BFF-1F37-471A-9664-808AB559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94210-5A76-4291-82E9-5866B4E6F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C8275-AC12-4F5A-A13E-0E3C7A5F4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55CDA-BD31-474E-AD35-881E33F7C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4AB7-A6EE-4C2A-AC5A-3D5A2D0C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ADAE-0916-45A4-9F7E-8817357A8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EE9D5-B0B6-48D8-8655-22EA7CB8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7410-9C24-4F76-AAC4-B707E2C58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F14A-49C4-4C84-BC32-3A02D97531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3300"/>
                </a:solidFill>
                <a:latin typeface="Perpetua Titling MT"/>
              </a:rPr>
              <a:t>SUMMARIZING</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is summarizing?</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Summarizing is condensing the main idea(s) in a text, perhaps a paragraph, to a single sentence, using one’s own words.</a:t>
            </a:r>
            <a:endParaRPr b="0" lang="en-US" sz="3600" spc="-1" strike="noStrike">
              <a:solidFill>
                <a:srgbClr val="000000"/>
              </a:solidFill>
              <a:latin typeface="Arial"/>
            </a:endParaRPr>
          </a:p>
          <a:p>
            <a:pPr marL="335880" indent="-335880">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Summarizing can improve your understanding of what you are reading and can be a very useful study to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o Summarize a Tex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ell/restate the main ide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ake it simpl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ake it shor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Use your own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How does summarizing improve understanding?</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t requires you to look for, organize, and explain main ide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t helps you remember what you have re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ummary for “The Right Stuff:</a:t>
            </a:r>
            <a:endParaRPr b="0" lang="en-US" sz="4400" spc="-1" strike="noStrike">
              <a:solidFill>
                <a:srgbClr val="000000"/>
              </a:solidFill>
              <a:latin typeface="Arial"/>
            </a:endParaRPr>
          </a:p>
        </p:txBody>
      </p:sp>
      <p:sp>
        <p:nvSpPr>
          <p:cNvPr id="49" name="PlaceHolder 2"/>
          <p:cNvSpPr>
            <a:spLocks noGrp="1"/>
          </p:cNvSpPr>
          <p:nvPr>
            <p:ph/>
          </p:nvPr>
        </p:nvSpPr>
        <p:spPr>
          <a:xfrm>
            <a:off x="762120" y="1599840"/>
            <a:ext cx="761976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or several reasons, German shepherds can be considered good working dogs.  They are large and strong, with thick fur coats that protect them when they work outside.  They are smart.  Finally, these dogs are, by nature, patient and even-temper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50" name="" descr=""/>
          <p:cNvPicPr/>
          <p:nvPr/>
        </p:nvPicPr>
        <p:blipFill>
          <a:blip r:embed="rId1"/>
          <a:stretch/>
        </p:blipFill>
        <p:spPr>
          <a:xfrm>
            <a:off x="7391520" y="4648320"/>
            <a:ext cx="1527120" cy="192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ummary for “Poor Choice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me dog breeds are not good working dogs.  The dachshund is small and difficult to train.  The poodle, though smart, lacks judgement.</a:t>
            </a:r>
            <a:endParaRPr b="0" lang="en-US" sz="3200" spc="-1" strike="noStrike">
              <a:solidFill>
                <a:srgbClr val="000000"/>
              </a:solidFill>
              <a:latin typeface="Arial"/>
            </a:endParaRPr>
          </a:p>
        </p:txBody>
      </p:sp>
      <p:pic>
        <p:nvPicPr>
          <p:cNvPr id="53" name="" descr=""/>
          <p:cNvPicPr/>
          <p:nvPr/>
        </p:nvPicPr>
        <p:blipFill>
          <a:blip r:embed="rId1"/>
          <a:stretch/>
        </p:blipFill>
        <p:spPr>
          <a:xfrm>
            <a:off x="5181480" y="3809880"/>
            <a:ext cx="2533680" cy="2241720"/>
          </a:xfrm>
          <a:prstGeom prst="rect">
            <a:avLst/>
          </a:prstGeom>
          <a:ln w="0">
            <a:noFill/>
          </a:ln>
        </p:spPr>
      </p:pic>
      <p:pic>
        <p:nvPicPr>
          <p:cNvPr id="54" name="" descr=""/>
          <p:cNvPicPr/>
          <p:nvPr/>
        </p:nvPicPr>
        <p:blipFill>
          <a:blip r:embed="rId2"/>
          <a:stretch/>
        </p:blipFill>
        <p:spPr>
          <a:xfrm>
            <a:off x="1687680" y="3767040"/>
            <a:ext cx="23508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02:29:49Z</dcterms:created>
  <dc:creator>nbdoe</dc:creator>
  <dc:description/>
  <dc:language>en-US</dc:language>
  <cp:lastModifiedBy>nbdoe</cp:lastModifiedBy>
  <dcterms:modified xsi:type="dcterms:W3CDTF">2007-11-20T02:48:53Z</dcterms:modified>
  <cp:revision>1</cp:revision>
  <dc:subject/>
  <dc:title>SUMMARIZING</dc:title>
</cp:coreProperties>
</file>